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9653-45A7-48A6-B463-2B8ADBDA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A52D-849B-4383-8F20-0437DFD7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2961-EA33-4826-81BE-C0756B25A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6890-F797-4583-9D43-B0D92294A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685B-6123-4418-9656-D5ADEB2E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E1AA-34E5-4D3A-9822-AAE63B3D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6B51-EA25-41D1-97E9-D76DA1DA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2790-11DE-4FAC-97E4-744DD885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3D1F-8AE8-4ADD-8454-A8FC6DC8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3E8C-D970-4DA2-BABA-BE3FC532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8468-AFA5-4B93-ACF9-C643C514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8536-4827-41A9-80A9-37D5F455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8b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858F-5A52-4CE0-BA4F-0F4B24376B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755640" y="476280"/>
            <a:ext cx="748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663300"/>
                </a:solidFill>
                <a:uFillTx/>
                <a:latin typeface="Arial"/>
              </a:rPr>
              <a:t>Задание 1.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Выбрать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итательные веществ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дукты пит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Мороженое. 2. Лимон. 3. Жирные кислоты. 4. Нуклеиновые кислоты. 5. Углеводы. 6.Хлеб. 7. Треска. 8. Сливочное масло. 9. Белки. 10. Глицерин. 11. Картофель. 12. Мясо. 13.Минеральные соли. 14. Аминокислоты. 15.Глюкоза. 16. Колбаса. 17. Жи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663300"/>
                </a:solidFill>
                <a:uFillTx/>
                <a:latin typeface="Arial"/>
              </a:rPr>
              <a:t>Задание 2. Установить последователь-ность органов пищеварительной систем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желудок, б) толстая кишка, в) ротовая полость, г) тонкая кишка, д) пищевод, е) гло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187280" y="476280"/>
            <a:ext cx="71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Регуляция слюноотде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214200" y="1071720"/>
            <a:ext cx="8715600" cy="50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состояни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одрствова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покоя ежеминутно выделяются около 0,5 мл слюны, в основном слизистого тип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 время сна секреция значительно уменьшает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ногие вкусовые стимулы, особенно кислый вкус (вызванный кислотой), приводят к обильной секреции слюн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гда человек нюхает или ест любимую пищу, слюноотделение более выражено, чем при нелюбимой пищ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971640" y="765000"/>
            <a:ext cx="7273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Academy"/>
              </a:rPr>
              <a:t>… </a:t>
            </a:r>
            <a:r>
              <a:rPr b="1" i="1" lang="ru-RU" sz="3600" spc="-1" strike="noStrike">
                <a:solidFill>
                  <a:srgbClr val="660033"/>
                </a:solidFill>
                <a:latin typeface="Academy"/>
              </a:rPr>
              <a:t>Ещё в Древней Индии применяли “испытание рисом”. На суде для решения вопроса о виновности или невиновности подсудимому предлагали съесть сухой рис. Если он его съест, значит, он не виновен, если нет, то виновен.</a:t>
            </a:r>
            <a:r>
              <a:rPr b="0" lang="ru-RU" sz="3600" spc="-1" strike="noStrike">
                <a:solidFill>
                  <a:srgbClr val="660033"/>
                </a:solidFill>
                <a:latin typeface="Academ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571680" y="785880"/>
            <a:ext cx="8358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человек нервничает, находится в стрессе, то у него "пересыхает" во рту, переработать рис без слюны не возмож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человек не виновен и спокоен, процесс слюноотделения нормальный, рис смачивается слюной и проглатывается лег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84360" y="2205000"/>
            <a:ext cx="7775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Механическое измельчение пищи (язык, зуб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Образование пищевого комка (слюна, язык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Частичное расщепление углеводов (ферменты слюны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1297440" y="476280"/>
            <a:ext cx="691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Этапы расщепления вещест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в ротовой пол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684360" y="620640"/>
          <a:ext cx="7848360" cy="5730840"/>
        </p:xfrm>
        <a:graphic>
          <a:graphicData uri="http://schemas.openxmlformats.org/drawingml/2006/table">
            <a:tbl>
              <a:tblPr/>
              <a:tblGrid>
                <a:gridCol w="3887640"/>
                <a:gridCol w="3960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итательн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одукты пит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Жирные кислоты. 4. Нуклеиновые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ты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Углеводы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Белки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Глицерин. 13.Минераль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и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 Аминокислоты. 15.Глюкоз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 Жир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оженое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мон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 Хлеб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Треск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Сливочное масл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Картофель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 Мясо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 Колбас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611280" y="3333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cademy"/>
              </a:rPr>
              <a:t>Органы пищеварительной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пищеварительная система"/>
          <p:cNvPicPr/>
          <p:nvPr/>
        </p:nvPicPr>
        <p:blipFill>
          <a:blip r:embed="rId1"/>
          <a:stretch/>
        </p:blipFill>
        <p:spPr>
          <a:xfrm>
            <a:off x="971640" y="1413000"/>
            <a:ext cx="4321080" cy="4103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594036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товая пол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01200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ще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114960" y="3500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у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102360" y="4292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нкая ки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6012000" y="5013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стая ки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012000" y="2133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3"/>
          <p:cNvSpPr/>
          <p:nvPr/>
        </p:nvSpPr>
        <p:spPr>
          <a:xfrm flipH="1">
            <a:off x="3203280" y="162864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4"/>
          <p:cNvSpPr/>
          <p:nvPr/>
        </p:nvSpPr>
        <p:spPr>
          <a:xfrm flipH="1" flipV="1">
            <a:off x="3276720" y="2852640"/>
            <a:ext cx="2735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 flipH="1">
            <a:off x="3564000" y="3789360"/>
            <a:ext cx="252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6"/>
          <p:cNvSpPr/>
          <p:nvPr/>
        </p:nvSpPr>
        <p:spPr>
          <a:xfrm flipH="1">
            <a:off x="3276720" y="4581360"/>
            <a:ext cx="27352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7"/>
          <p:cNvSpPr/>
          <p:nvPr/>
        </p:nvSpPr>
        <p:spPr>
          <a:xfrm flipH="1">
            <a:off x="3492000" y="522936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H="1" flipV="1">
            <a:off x="3203640" y="1915920"/>
            <a:ext cx="2665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116000" y="2421000"/>
            <a:ext cx="691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99"/>
                </a:solidFill>
                <a:latin typeface="a_BodoniNova"/>
              </a:rPr>
              <a:t>Пищеварение в ротовой полос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332000" y="62064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Строение зу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внутреннее строение зуба"/>
          <p:cNvPicPr/>
          <p:nvPr/>
        </p:nvPicPr>
        <p:blipFill>
          <a:blip r:embed="rId1"/>
          <a:stretch/>
        </p:blipFill>
        <p:spPr>
          <a:xfrm>
            <a:off x="2195640" y="1341360"/>
            <a:ext cx="4968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332000" y="47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Гигиена ротовой пол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4716360" y="2276640"/>
            <a:ext cx="396108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Сто болезней входит через рот”.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Китайская пословиц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чистка зубов"/>
          <p:cNvPicPr/>
          <p:nvPr/>
        </p:nvPicPr>
        <p:blipFill>
          <a:blip r:embed="rId1"/>
          <a:stretch/>
        </p:blipFill>
        <p:spPr>
          <a:xfrm>
            <a:off x="611280" y="1197000"/>
            <a:ext cx="34462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403280" y="40464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Слюнные желе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слюнные железы"/>
          <p:cNvPicPr/>
          <p:nvPr/>
        </p:nvPicPr>
        <p:blipFill>
          <a:blip r:embed="rId1"/>
          <a:stretch/>
        </p:blipFill>
        <p:spPr>
          <a:xfrm>
            <a:off x="1785960" y="1071720"/>
            <a:ext cx="559260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340000" y="549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Состав слю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D:\212006\imga.jpg"/>
          <p:cNvPicPr/>
          <p:nvPr/>
        </p:nvPicPr>
        <p:blipFill>
          <a:blip r:embed="rId1"/>
          <a:stretch/>
        </p:blipFill>
        <p:spPr>
          <a:xfrm>
            <a:off x="214200" y="1285920"/>
            <a:ext cx="87631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258920" y="47628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Органические вещества входящие в состав слю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11280" y="1844640"/>
            <a:ext cx="7488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1. Муцины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– сложные белки, содержащие полисахариды, они придают слюне вязкость и клейкость, способствуют смачиванию и склеиванию пищевого комка и облегчают его проглатыв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2. 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Лизоцим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убивает микро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3. Амилаза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является гидролитическим ферментом и расщепляет молекулы крахмала и гликогена с образованием мальтозы и сахароз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12:36:20Z</dcterms:created>
  <dc:creator>Chip</dc:creator>
  <dc:description/>
  <dc:language>en-US</dc:language>
  <cp:lastModifiedBy>Александр</cp:lastModifiedBy>
  <dcterms:modified xsi:type="dcterms:W3CDTF">2012-04-02T18:12:16Z</dcterms:modified>
  <cp:revision>12</cp:revision>
  <dc:subject/>
  <dc:title>Слайд 1</dc:title>
</cp:coreProperties>
</file>